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D31E-C0FE-4E7A-8663-BD5B9DC0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4574-C293-4C80-8ABB-5ED800DD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8BA5-F866-42D1-9B0F-D08E6358D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CD80-7E90-4AD7-A322-073AFE1CB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96A3-5D9A-4B6C-BB4C-89BE1BD4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D437-CB86-4888-AE3A-BCC053B1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23ED-38CE-4760-85C0-9E21EFA3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393F-D7D9-415B-8B45-6CA90539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DF71-4DCB-45F9-A988-128EF8D3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5C15-24F5-4E53-8119-0088029C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6747-6252-4821-890C-E09D7D09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6C4D-368F-4CA7-8A27-8C6A1043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947C-D7EE-4C36-84AA-19D2650E1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2.scholastic.com/browse/video.jsp?pID=1640149541&amp;bcpid=1640149541&amp;bclid=57826465001&amp;bctid=76958613001" TargetMode="External"/><Relationship Id="rId2" Type="http://schemas.openxmlformats.org/officeDocument/2006/relationships/hyperlink" Target="http://www2.scholastic.com/browse/video.jsp?pID=1640149541&amp;bcpid=1640149541&amp;bclid=57826465001&amp;bctid=76958613001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Typewriter"/>
              </a:rPr>
              <a:t>Digital Book Tal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orytelling is the art of using language, vocalization, and/or physical movement and gesture to reveal the elements and images of a story to a specific, live audie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-From members of the National Association of Storytel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8018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igital Book Tal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review of a book by one person.  It should be short and exciting and should have a cliff hanger.  Its purpose is to sell the book.  It is not a full summ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Trailer- very short, action packed video shown to entice the person to read the book.  It has a plot but does not give away end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would you use Digital Book Talk in a classroom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reading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reading-If you liked this book, here are some sugg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log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-Give book talk after reading a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o invite into a center or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/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Grabs readers at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Exposes them to different genr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Exposed to different demographics and may relate to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Can be used in classroom and media center-especially G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Help you meet stand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Helps children practice summarization and identifying elements of the stor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Some tend to be commercial like and produced by author or publisher with the intent to sell the book not to entice the person to read the bo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If children do book talks-some of them do not like to talk on cam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Book trailers want to persuade you to read the book-book talks want to excite you about boo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Some believe it to be a video recording just reading the book-not all used correct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Not many people can create a book trailer the way it should be made-low bud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s/mo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Used to Create Digital S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MA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pho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mov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hoto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MovieMa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t’s look at some 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fter Ever After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Book 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Black Rabbit Summer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e Arriva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Tal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Of Mice and Men Book Tra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e Natura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Tra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23:01:09Z</dcterms:created>
  <dc:creator>BCPS</dc:creator>
  <dc:description/>
  <dc:language>en-US</dc:language>
  <cp:lastModifiedBy>BCPS</cp:lastModifiedBy>
  <dcterms:modified xsi:type="dcterms:W3CDTF">2010-10-13T21:01:22Z</dcterms:modified>
  <cp:revision>4</cp:revision>
  <dc:subject/>
  <dc:title>Digital ___________</dc:title>
</cp:coreProperties>
</file>